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D5E-1E82-425B-B5A8-1B64EE1D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2BC-7C7D-4F16-AB92-203C338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FDC-8E99-4794-B915-EEE1376C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3D0-D78D-4A0D-87F6-21764CA6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5651-8483-47DB-AC56-6D1275D4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3405-1DA7-4E35-942B-17C5C00F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C3BD-E5A9-4E20-B28E-87AC424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3F1-16AA-4103-BC17-0F756D6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A4D-58E6-413F-A17C-0B257E73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C68A-F95A-4E0D-9B0C-BFD66491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9AC1-87C9-4208-AD1E-FC6BC82D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E3C-A7A2-4002-B282-27428ADF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2877-C39C-471D-934B-958E299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2117-53AD-4AF6-BA23-FEBD43FF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D01F-9846-43B8-8DAE-73857481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298E-E073-4230-A3CF-5C6A5281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5F65-A86D-4298-ADE1-946F64E8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4F9-D85F-4AB0-BBFC-DDD692B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A7B-5F42-4A04-888E-DE82718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1DE-D3C8-487A-94F6-D583595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121-A5A4-4AB7-89CC-DFD48D2B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D91-8D05-4B0E-B0FA-48944C49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74F-8497-48F7-8E38-9BDF896D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8E3-8D1B-47FF-9AC7-7630E55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010-A518-4B5B-8AD0-CC28C05CB1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269B-C46F-4FDC-BD67-F38FD547E4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loy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e Osbor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n Allo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lloy is any solid solution consisting of atoms consisting of different materi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Aluminum alloy being used in a pipe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Aluminum Alloy Pipe"/>
          <p:cNvPicPr/>
          <p:nvPr/>
        </p:nvPicPr>
        <p:blipFill>
          <a:blip r:embed="rId1"/>
          <a:srcRect l="0" t="12504" r="0" b="125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Zinc being utilitised an alloy that forms a screw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http://www.germes-online.com/direct/dbimage/50302133/Nylon_Zinc_Alloy_Anchor.jpg"/>
          <p:cNvPicPr/>
          <p:nvPr/>
        </p:nvPicPr>
        <p:blipFill>
          <a:blip r:embed="rId1"/>
          <a:srcRect l="0" t="12504" r="0" b="1250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include Steel, ( Iron+Carb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ss (Copper+Zin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nze ( copper+phosphorous+ tin+Zin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e use allo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allots in jewelry to manufacture 14 carat gold as well as white go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uses include Mercury amalgams for dental fil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ll as pewter in the production of figur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This Relates to What We have Learne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relevant to he material on per cent compositio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well as physical  and chemical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n the study of mixtures alloys are essent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ercent composition is ste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were alloys first discover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ur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ichael Hogan, (1969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nsity of States of an Insulating Ferromagnetic Allo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hys. Rev. 188, 870 - 874, [Issue 2 – December 1969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^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X. Y. Zhang and H. Suhl (1985) Phys. Rev. A 32, 2530 - 2533 (1985) [Issue 4 – October 1985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5:05:31Z</dcterms:created>
  <dc:creator>Cole</dc:creator>
  <dc:description/>
  <dc:language>en-US</dc:language>
  <cp:lastModifiedBy>Student</cp:lastModifiedBy>
  <dcterms:modified xsi:type="dcterms:W3CDTF">2009-02-27T13:24:15Z</dcterms:modified>
  <cp:revision>4</cp:revision>
  <dc:subject/>
  <dc:title>Alloys</dc:title>
</cp:coreProperties>
</file>